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9D33-B5A3-47C6-9633-6DC7754E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65E-4EEE-41A7-B812-3D69F671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ABC-E64E-489C-94C8-FFDA7707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77D0-B3EB-4F78-AB40-8B027CFA6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C1F1-4EBF-4B26-84DF-6F1D4CCF6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D219-5ED7-493B-9C60-7266E032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FFA93-60B9-42CD-AC8F-22E0F4DF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5952-3A3F-4EA1-8443-4BF06722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61FC-1D8A-4E2C-9299-2CA5DA82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8094-3D45-4B44-AC9A-1E6C9A85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A34F-85E9-4A34-BA5A-5255A7AD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C651-3586-4DA3-A426-DC85C1FC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77367-9F4F-4621-83AD-5EF5F8F9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B18B-5D72-4D71-B069-1AD4B0E96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5FEB1-C0D6-45AE-838C-0A34F513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0FA9-DC77-4B3C-BFFA-B2B51A13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7E2E3-4A38-4715-812D-F22FA5C0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AC64E-A5D7-4AF5-B9AE-2C2B59D7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BE4E3-F17D-47B0-84B9-F0791386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A2CF1-6DEF-46DB-B745-B91E9AEA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E6D76-BC95-4555-88CA-2E66D331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31195-6170-4CDE-A182-480E2899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D135-101F-45F3-84AA-458B8A73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7BCF9-9089-4A17-9C33-6C17142F1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7E147-F7CF-4840-9126-666A644D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5C43F-FA02-4D27-9581-F186D51A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C45C0-9046-4A0B-95C3-8FC0C1A2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51B7B-25E1-4AB1-B335-0A61A2CBE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ED625-1FBC-4060-87A7-CD1F8FCFF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F8E0-AE5D-4479-B954-9FCA0696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19110-B120-41DA-9A67-A88A3C879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4483-89D9-4231-A855-EB18C510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637E6-D328-4C35-A402-C986F60F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405F-1E37-493A-B179-B2C0DA8B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C3015-9BC1-4F6B-BF38-4130B5E8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8870B-7209-4BFA-B045-736AC9E1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F4AE2-5AAF-4A8E-A48A-0D4A1DAC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2BFD7-931C-4B96-A1B1-3AE72430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8733A-F026-4726-AB54-39020FFB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F6736-8B87-4263-A166-751A86C2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E08E-E8E8-4821-9549-D380C3D8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42B4F-744A-49C1-9404-A715EFA5A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4AC87-673D-4B0D-AEE5-A77A9BBD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6A54-CDE0-4DAC-86F4-72556F31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62AA-D57F-4F9C-9E1E-7941D76A7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FB0-3BAF-4117-8DC8-E82CC3BD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04CB-D8A4-4AA9-B340-73086E72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1E3-5DDA-4C6A-BFB3-C3DD0F5B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5ED4-D5FB-4307-9DEC-57607B8617B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E08FA-865E-4951-B2FA-2159F66F167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8FD6-F14F-4C9F-9DFB-87ADB7CCDB28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4D92-F0B1-4363-A251-56FE8B79503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547120" cy="2559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3842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презентац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ученицы 6 класса «В»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d0d0d"/>
                </a:solidFill>
                <a:latin typeface="Constantia"/>
              </a:rPr>
              <a:t>Жук Алёны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6" descr="1253143630"/>
          <p:cNvPicPr/>
          <p:nvPr/>
        </p:nvPicPr>
        <p:blipFill>
          <a:blip r:embed="rId2"/>
          <a:srcRect l="0" t="20816" r="4989" b="2026"/>
          <a:stretch/>
        </p:blipFill>
        <p:spPr>
          <a:xfrm>
            <a:off x="214200" y="1928880"/>
            <a:ext cx="4357800" cy="47005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-360" y="404640"/>
            <a:ext cx="5435640" cy="645336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Александр Иванович Куприн родился в городе Наровчат Пензенской губернии в небогатой чиновничьей семье. Детство и юность Куприна прошла в Москве. Тринадцать лет детства и юности Александр Иванович провёл в закрытых учебных заведениях. После тяжких лет казарменной жизни скитался по России, был и репортёром, и грузчиком и управляющим на стройке, землемером, работал на литейном заводе, выступал на сцене, изучал зубоврачебное дело, был журналис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C:\Users\Public\Pictures\Sample Pictures\Batkin1.jpg"/>
          <p:cNvPicPr/>
          <p:nvPr/>
        </p:nvPicPr>
        <p:blipFill>
          <a:blip r:embed="rId1"/>
          <a:stretch/>
        </p:blipFill>
        <p:spPr>
          <a:xfrm>
            <a:off x="5327640" y="244440"/>
            <a:ext cx="3852720" cy="55040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7T18:54:52Z</dcterms:created>
  <dc:creator>Алёна</dc:creator>
  <dc:description/>
  <dc:language>en-US</dc:language>
  <cp:lastModifiedBy>Пользователь Windows</cp:lastModifiedBy>
  <dcterms:modified xsi:type="dcterms:W3CDTF">2014-02-12T10:38:52Z</dcterms:modified>
  <cp:revision>14</cp:revision>
  <dc:subject/>
  <dc:title>Александр Иванович Куприн</dc:title>
</cp:coreProperties>
</file>